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89.png" ContentType="image/png"/>
  <Override PartName="/ppt/media/image52.png" ContentType="image/png"/>
  <Override PartName="/ppt/media/image59.png" ContentType="image/png"/>
  <Override PartName="/ppt/media/image24.jpeg" ContentType="image/jpeg"/>
  <Override PartName="/ppt/media/image71.png" ContentType="image/png"/>
  <Override PartName="/ppt/media/image27.jpeg" ContentType="image/jpeg"/>
  <Override PartName="/ppt/media/image10.jpeg" ContentType="image/jpeg"/>
  <Override PartName="/ppt/media/image21.jpeg" ContentType="image/jpeg"/>
  <Override PartName="/ppt/media/image65.png" ContentType="image/png"/>
  <Override PartName="/ppt/media/image80.jpeg" ContentType="image/jpeg"/>
  <Override PartName="/ppt/media/image60.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6.png" ContentType="image/png"/>
  <Override PartName="/ppt/media/image67.png" ContentType="image/png"/>
  <Override PartName="/ppt/media/image77.png" ContentType="image/png"/>
  <Override PartName="/ppt/media/image87.png" ContentType="image/png"/>
  <Override PartName="/ppt/media/image50.png" ContentType="image/png"/>
  <Override PartName="/ppt/media/image86.png" ContentType="image/png"/>
  <Override PartName="/ppt/media/image74.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75.png" ContentType="image/png"/>
  <Override PartName="/ppt/media/image81.jpeg" ContentType="image/jpeg"/>
  <Override PartName="/ppt/media/image22.jpeg" ContentType="image/jpeg"/>
  <Override PartName="/ppt/media/image1.jpeg" ContentType="image/jpeg"/>
  <Override PartName="/ppt/media/image11.png" ContentType="image/png"/>
  <Override PartName="/ppt/media/image48.png" ContentType="image/png"/>
  <Override PartName="/ppt/media/image29.png" ContentType="image/png"/>
  <Override PartName="/ppt/media/image51.wmf" ContentType="image/x-wmf"/>
  <Override PartName="/ppt/media/image90.png" ContentType="image/png"/>
  <Override PartName="/ppt/media/image25.png" ContentType="image/png"/>
  <Override PartName="/ppt/media/image19.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5.jpeg" ContentType="image/jpeg"/>
  <Override PartName="/ppt/media/image61.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media/image9.jpeg" ContentType="image/jpeg"/>
  <Override PartName="/ppt/media/image36.png" ContentType="image/png"/>
  <Override PartName="/ppt/media/image20.png" ContentType="image/png"/>
  <Override PartName="/ppt/media/image5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5881F-E64F-43CE-9771-792F8A7D0D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23F53-BBED-4F51-BAC6-B1174D4D7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4634F-20C8-4C1C-A407-4C200A4C7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663EB-5A21-4DE5-A07B-1D813EB2B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77254-550E-4622-8959-22A52DE102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F84BB-B1FE-4DE4-8164-DFA7B0B43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DAF8FB-7715-40B1-BE0A-21F2D6255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18B5E5-3C4C-46BB-969D-0F217F22E4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CB2BF0-1424-4221-B0D3-2AD77C1C5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D7DCE-C08A-412E-9FFA-2AE4699E17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545DF-D644-48BF-B78D-7B37A8CAF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81411D-68B8-4E4F-AE61-FE32A6E85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11B64C-718B-4A2D-8303-51879D3FCC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E01FA-BD5A-415A-A471-F47702715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8A4DA-526E-44D2-BF0C-4BC1491C5A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8756E-B8AC-4E20-A8B2-02790F395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A7C07-D141-4C42-BBDC-C6D69BC8D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D171C-A592-4555-A8A2-03EADBD24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FB350-689B-4529-AB02-48E3605C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512FC-D83C-4214-8A16-C345795A1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C24EA4-F0D4-44CC-8D35-A86E59C010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A19DF6-3547-4178-BEC4-FA94109F98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691871-0FB6-4CF6-BE73-14A75C47D4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E16360-3E37-4E6F-AEC2-5B3AAA6315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9402BB-98E8-4426-905A-99FDC36BD8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4FCAB9-4D9A-4BF1-BC57-C59DC875E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4175F8-C0C8-4215-B863-65E3C7E620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FE594F-79D7-490E-9A92-62670625C0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493AAD-CC39-486B-BDE8-23C0FE8375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014C-FD0E-4EAB-A822-35410096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4411EF-4F2D-4F6D-88B5-18A9368419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F89668-7577-4135-ACFA-155D0778B1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CAACD3-8FD0-47AF-8065-4517B3ED90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BA048C-F1B4-45E8-BA21-715100A4FB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6DBEF5-DC5B-4D12-894C-DE822C313C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61D06C-6D3F-4EB0-B6D9-54E0D727F9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56BAF7-15D4-4220-9892-06EF56EC61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2B1D67-8129-48D8-9F36-3AA58DFED4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776EE7-ED33-477C-BAF2-A105FB4E86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576B1E-740B-4194-B669-4D0ADE7309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6AE4-C8A6-4AEB-8B6E-38423337F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1578C8-77C5-4723-9754-0A044F8F4E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E9F1F-473F-45D4-A31B-531D901968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76A3DB-E24C-4C93-8CAB-313F923E8D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05DE6D-E19C-4A3A-B906-2A918EBCD3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51C159-61D0-4D80-B1E0-8E7FE858A6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4651DF-7C63-4C13-BD2F-839DD97512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D65DBB-D35C-41E5-89E1-6DCEBB5B18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B537F-4A72-468B-B0DB-C312B4C7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A49BE-CE6C-4E33-807B-3FD8D77F1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9B41-9611-4F2F-A03A-DC989630F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E41E-7240-4A9E-9AF6-1A3A9F39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1146-1E73-404B-8512-F10457AA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548D-2AA9-4266-88DD-2E06D10C7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BA4B-5F56-4A88-908F-72C864E6B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28C9-54A7-4C3C-B7E4-3666A647B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59D54-E0B1-4706-B3A9-D4DC14C94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E3DA3-84CE-466C-8441-073B6D0FB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CA7B0-B7DA-4360-95A4-4FEE91EB7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07F1-7EE9-4373-B917-CAA32BDAE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3228-A8DD-4EFE-96C1-A640F7016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B77E3-B9FE-4595-B6FE-428905A2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77072-1CFD-4213-AE3E-6356F97AC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7F196-4D68-4E47-8C60-133140E9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B4F74-E668-4C27-A315-6299949C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1094-0D6C-4FBA-AB3C-1537B197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21B20-9FB4-464C-8D19-0D16275CF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4FEC3-8A1D-4B02-9299-E9F4D9456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408D3-777F-41E6-B848-8D2E91656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1973F-E41C-4B14-B9D6-4FF18C8ED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742B0-4883-4F58-9D5D-EE1909DEE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BFBE1-9387-4935-B74D-E3C8B9A00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ACE47-3755-4801-AE96-101C4F04B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F1D83-E407-4621-A1D8-7E0BDCD46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C25B4-B105-4BD3-8B5A-1B30D41DA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FF7E5-9870-46C2-A1D8-303DB41C8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853DB-9C40-4653-98C5-C16FEED0B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EF0DC-34A2-44D4-803F-7D0204477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444ED-98D9-404C-B986-CE79A483E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ABE73-A293-4F64-962B-CA46E6670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3CF80D-1A06-4B3B-90AA-F1DD12DFE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89BA8B-78AD-46BA-9BF5-EAE6A96149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B778C-D8C6-4ECF-B953-8C2E0CE17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95053-6E4C-4570-BF52-2860C5228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3B252-81B6-4525-8FFA-1E2C9826C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75A5D-07E3-4BAA-8030-1503E02E7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F4CCD-139A-4915-92D7-274063F88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07997-19D3-419B-9A58-9447C51C3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3F92D-F338-42C0-A4E4-BB68914E4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83C39-804B-4C82-857F-3D5D09E71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4393D-0326-40D6-898F-C65D6C45F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4A5C80-066B-4B33-A87C-149F290E32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0DE9D-6279-4F7B-996F-169750FFD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FCBC8-030A-4CA5-9645-299689E1F7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13B41-0B48-4172-8417-C34F420B1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7D722-FE1C-43C2-BBC1-5843D303F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90869-BD7D-41E1-85F5-83C299BBE7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039AB-B463-4723-BF73-D87D58399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64299-21B4-4CAA-B1CF-E444616BE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9D1EA-E528-4E32-95FD-3F13E667C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EF071-D87B-49AD-90C7-5BADC2B89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BE700-6C5E-4F2C-A44F-8846854E2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BBC83-E4A7-4CDE-BC26-674B03039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71613-982E-472D-B580-1B5A2C6FFF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245C7B-420F-49A0-8FBA-116E22DD6D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62B37C-BA88-4B73-AE98-338FA9617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2DDAB-59E1-4F9D-877E-7C7279215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8C99A6-AB97-4306-8AFE-8D446968C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910B1-DDD6-4F25-B139-28F12F2A5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26C56-663F-4DE6-8BBB-1E8904211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EEF1B-ECB7-4581-A33D-DB1928EBD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BD171-C56C-4E82-8928-DC3DEB796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9C2D5-FAAF-4AC9-BD09-A3C79A0EC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A1451-455B-4B89-806A-6C04D4F1C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D33F1-19B8-42B1-97B7-A198C3277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40FBC9-CBC2-48B1-92C3-6BE9C7830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C48CFA-C290-47A3-8DB3-3C34D6A5A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CCEF26-18A2-4AC2-A98E-6D234F1591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CA7E5-1368-4A7C-9AC7-2ADD859F22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F7D19E-1091-4A86-BAC4-83215D0C6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E47DFA-8E30-4E23-98E0-F9022C31B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510C6-E94B-4816-BBD6-1F0769392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91E97F-5B94-4F37-AD35-A4E54AFD3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29913F-88AF-4CA4-AF11-0CA1F1884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6F22A-D0BA-43CB-A8D3-3E180E1443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635A2-E6F4-4142-825E-B602098B0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32490E-4B86-4883-812C-CF6496CC8B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0A29C9-DC08-4D2D-881D-67E913B616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C658F8-CF76-4C34-8104-6BE9EEEE1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BA7F00-60C0-4CFB-A146-381B9B75FC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7C656-EBA5-417A-9192-F51C95AE6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F618B-21F3-4D22-BF53-355FD2D989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274-8EB2-4881-B4F7-AEE24FB003C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21D9-FA79-4D1F-9CF8-385528DC67A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524D-E9E2-4C94-82DF-93E518BD092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E631-8D8D-446A-9B67-905545CC651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025D-9586-46DC-BE41-8DC4C26AA37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08D2-4A63-410C-84CD-F70B36CD0FFB}"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35DB-E7A5-465D-AAA3-AF2890D2CF3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1F07-7D89-4988-A48C-18D1F5FE174B}"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BC6B-37DD-4456-91FF-E782D952808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46A2-A0B7-4059-B4E3-CE3C4B77AC32}"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A2DB-AEDB-46A0-81CB-BB7E12F86C6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image" Target="../media/image69.png"/><Relationship Id="rId15" Type="http://schemas.openxmlformats.org/officeDocument/2006/relationships/image" Target="../media/image70.png"/><Relationship Id="rId16" Type="http://schemas.openxmlformats.org/officeDocument/2006/relationships/image" Target="../media/image71.png"/><Relationship Id="rId17" Type="http://schemas.openxmlformats.org/officeDocument/2006/relationships/image" Target="../media/image72.png"/><Relationship Id="rId18" Type="http://schemas.openxmlformats.org/officeDocument/2006/relationships/image" Target="../media/image73.png"/><Relationship Id="rId19" Type="http://schemas.openxmlformats.org/officeDocument/2006/relationships/image" Target="../media/image74.png"/><Relationship Id="rId20"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14"/>
          <a:stretch/>
        </p:blipFill>
        <p:spPr>
          <a:xfrm>
            <a:off x="8089920" y="2457360"/>
            <a:ext cx="1041480" cy="419040"/>
          </a:xfrm>
          <a:prstGeom prst="rect">
            <a:avLst/>
          </a:prstGeom>
          <a:ln w="0">
            <a:noFill/>
          </a:ln>
        </p:spPr>
      </p:pic>
      <p:pic>
        <p:nvPicPr>
          <p:cNvPr id="771" name="101 Rectángulo" descr=""/>
          <p:cNvPicPr/>
          <p:nvPr/>
        </p:nvPicPr>
        <p:blipFill>
          <a:blip r:embed="rId15"/>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16"/>
          <a:stretch/>
        </p:blipFill>
        <p:spPr>
          <a:xfrm>
            <a:off x="8174160" y="4456080"/>
            <a:ext cx="1042920" cy="420840"/>
          </a:xfrm>
          <a:prstGeom prst="rect">
            <a:avLst/>
          </a:prstGeom>
          <a:ln w="0">
            <a:noFill/>
          </a:ln>
        </p:spPr>
      </p:pic>
      <p:pic>
        <p:nvPicPr>
          <p:cNvPr id="778" name="112 Rectángulo" descr=""/>
          <p:cNvPicPr/>
          <p:nvPr/>
        </p:nvPicPr>
        <p:blipFill>
          <a:blip r:embed="rId17"/>
          <a:stretch/>
        </p:blipFill>
        <p:spPr>
          <a:xfrm>
            <a:off x="2371680" y="4456080"/>
            <a:ext cx="1041480" cy="420840"/>
          </a:xfrm>
          <a:prstGeom prst="rect">
            <a:avLst/>
          </a:prstGeom>
          <a:ln w="0">
            <a:noFill/>
          </a:ln>
        </p:spPr>
      </p:pic>
      <p:pic>
        <p:nvPicPr>
          <p:cNvPr id="779" name="122 Rectángulo" descr=""/>
          <p:cNvPicPr/>
          <p:nvPr/>
        </p:nvPicPr>
        <p:blipFill>
          <a:blip r:embed="rId18"/>
          <a:stretch/>
        </p:blipFill>
        <p:spPr>
          <a:xfrm>
            <a:off x="7589880" y="5883120"/>
            <a:ext cx="1041480" cy="420840"/>
          </a:xfrm>
          <a:prstGeom prst="rect">
            <a:avLst/>
          </a:prstGeom>
          <a:ln w="0">
            <a:noFill/>
          </a:ln>
        </p:spPr>
      </p:pic>
      <p:pic>
        <p:nvPicPr>
          <p:cNvPr id="780" name="124 Rectángulo" descr=""/>
          <p:cNvPicPr/>
          <p:nvPr/>
        </p:nvPicPr>
        <p:blipFill>
          <a:blip r:embed="rId19"/>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ient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9T17:54:39Z</dcterms:modified>
  <cp:revision>113</cp:revision>
  <dc:subject/>
  <dc:title>Diapositiva 1</dc:title>
</cp:coreProperties>
</file>